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35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9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CBBC-F494-4D41-89AB-57C4DCD42C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7D14-C00A-4577-8F8C-4ED5F9338A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256F-9235-46A9-B56A-927B68E92E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80F-B075-4BD8-B521-01639976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BB5-809B-4DB6-8C68-F5B21DCE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2E8-877C-4908-9694-06FFC12D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2B4-BC7A-412A-93DF-7D76A66C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D71-039B-4BFB-AFF7-BAE014D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B53-1E6B-43B3-BD27-99AFDA0F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F99-E753-41B7-924E-55998D8B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8AC-15BE-4FC8-9EA9-EBA4932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7AD-740A-47EA-9D1E-03C2DCC3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59B-BFD6-4411-A7D2-3BAE469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685-BC9D-4653-9EF2-8626BBF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739-1D4F-49CB-9324-3C1D9528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4B8C-869B-4B70-BB2A-534F962AB1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0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5.wmf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8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9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3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4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06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微分方程及其通解与特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3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后作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4" name="Object 2"/>
          <p:cNvGraphicFramePr/>
          <p:nvPr/>
        </p:nvGraphicFramePr>
        <p:xfrm>
          <a:off x="1000080" y="1071720"/>
          <a:ext cx="7505640" cy="3308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1071720"/>
                    <a:ext cx="7505640" cy="33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928800" y="4000680"/>
          <a:ext cx="7453080" cy="1714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8800" y="4000680"/>
                    <a:ext cx="74530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50"/>
          <p:cNvSpPr/>
          <p:nvPr/>
        </p:nvSpPr>
        <p:spPr>
          <a:xfrm>
            <a:off x="1944720" y="316692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微分方程的基本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51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5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285840" y="857160"/>
          <a:ext cx="8429400" cy="200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857160"/>
                    <a:ext cx="842940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9"/>
          <p:cNvGraphicFramePr/>
          <p:nvPr/>
        </p:nvGraphicFramePr>
        <p:xfrm>
          <a:off x="642960" y="1785960"/>
          <a:ext cx="7000920" cy="1571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2960" y="1785960"/>
                    <a:ext cx="700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8"/>
          <p:cNvGraphicFramePr/>
          <p:nvPr/>
        </p:nvGraphicFramePr>
        <p:xfrm>
          <a:off x="928800" y="2857680"/>
          <a:ext cx="5935680" cy="12855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8800" y="2857680"/>
                    <a:ext cx="593568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5"/>
          <p:cNvGraphicFramePr/>
          <p:nvPr/>
        </p:nvGraphicFramePr>
        <p:xfrm>
          <a:off x="857160" y="3429000"/>
          <a:ext cx="7215120" cy="18255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57160" y="3429000"/>
                    <a:ext cx="721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0"/>
          <p:cNvGraphicFramePr/>
          <p:nvPr/>
        </p:nvGraphicFramePr>
        <p:xfrm>
          <a:off x="1214280" y="4786200"/>
          <a:ext cx="6715440" cy="14954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80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4280" y="4786200"/>
                    <a:ext cx="671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785880" y="928800"/>
          <a:ext cx="7683480" cy="133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928800"/>
                    <a:ext cx="768348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7"/>
          <p:cNvGraphicFramePr/>
          <p:nvPr/>
        </p:nvGraphicFramePr>
        <p:xfrm>
          <a:off x="1285920" y="4714920"/>
          <a:ext cx="6072120" cy="1214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5920" y="4714920"/>
                    <a:ext cx="60721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54"/>
          <p:cNvGraphicFramePr/>
          <p:nvPr/>
        </p:nvGraphicFramePr>
        <p:xfrm>
          <a:off x="785880" y="2071800"/>
          <a:ext cx="7718400" cy="25714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8" name="Object 5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85880" y="2071800"/>
                    <a:ext cx="771840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1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Object 28"/>
          <p:cNvGraphicFramePr/>
          <p:nvPr/>
        </p:nvGraphicFramePr>
        <p:xfrm>
          <a:off x="571680" y="714240"/>
          <a:ext cx="8161200" cy="2500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714240"/>
                    <a:ext cx="81612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29"/>
          <p:cNvGraphicFramePr/>
          <p:nvPr/>
        </p:nvGraphicFramePr>
        <p:xfrm>
          <a:off x="785880" y="3143160"/>
          <a:ext cx="7410240" cy="2309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4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3143160"/>
                    <a:ext cx="74102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8"/>
          <p:cNvGraphicFramePr/>
          <p:nvPr/>
        </p:nvGraphicFramePr>
        <p:xfrm>
          <a:off x="1000080" y="1214280"/>
          <a:ext cx="6607080" cy="135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1214280"/>
                    <a:ext cx="66070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0"/>
          <p:cNvGraphicFramePr/>
          <p:nvPr/>
        </p:nvGraphicFramePr>
        <p:xfrm>
          <a:off x="909720" y="3000240"/>
          <a:ext cx="7753320" cy="215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9720" y="3000240"/>
                    <a:ext cx="77533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1"/>
          <p:cNvGraphicFramePr/>
          <p:nvPr/>
        </p:nvGraphicFramePr>
        <p:xfrm>
          <a:off x="3214800" y="1643040"/>
          <a:ext cx="1011240" cy="35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14800" y="1643040"/>
                    <a:ext cx="101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2"/>
          <p:cNvGraphicFramePr/>
          <p:nvPr/>
        </p:nvGraphicFramePr>
        <p:xfrm>
          <a:off x="6500880" y="1643040"/>
          <a:ext cx="1011240" cy="357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00880" y="1643040"/>
                    <a:ext cx="101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4071960" y="2143080"/>
          <a:ext cx="1011240" cy="357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71960" y="2143080"/>
                    <a:ext cx="101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7143840" y="2143080"/>
          <a:ext cx="296640" cy="357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143840" y="2143080"/>
                    <a:ext cx="2966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5"/>
          <p:cNvGraphicFramePr/>
          <p:nvPr/>
        </p:nvGraphicFramePr>
        <p:xfrm>
          <a:off x="4095720" y="3643200"/>
          <a:ext cx="534960" cy="357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95720" y="3643200"/>
                    <a:ext cx="5349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6"/>
          <p:cNvGraphicFramePr/>
          <p:nvPr/>
        </p:nvGraphicFramePr>
        <p:xfrm>
          <a:off x="7358040" y="3286080"/>
          <a:ext cx="534960" cy="357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Object 1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358040" y="3286080"/>
                    <a:ext cx="5349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7"/>
          <p:cNvGraphicFramePr/>
          <p:nvPr/>
        </p:nvGraphicFramePr>
        <p:xfrm>
          <a:off x="4572000" y="4572000"/>
          <a:ext cx="534960" cy="357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74" name="Object 1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572000" y="4572000"/>
                    <a:ext cx="5349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8"/>
          <p:cNvGraphicFramePr/>
          <p:nvPr/>
        </p:nvGraphicFramePr>
        <p:xfrm>
          <a:off x="8072280" y="4286160"/>
          <a:ext cx="535320" cy="357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6" name="Object 1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072280" y="4286160"/>
                    <a:ext cx="5353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2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Object 2"/>
          <p:cNvGraphicFramePr/>
          <p:nvPr/>
        </p:nvGraphicFramePr>
        <p:xfrm>
          <a:off x="928800" y="642960"/>
          <a:ext cx="7091280" cy="1411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642960"/>
                    <a:ext cx="70912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7"/>
          <p:cNvGraphicFramePr/>
          <p:nvPr/>
        </p:nvGraphicFramePr>
        <p:xfrm>
          <a:off x="722160" y="1571760"/>
          <a:ext cx="4988160" cy="4074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2160" y="1571760"/>
                    <a:ext cx="498816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28" descr=""/>
          <p:cNvPicPr/>
          <p:nvPr/>
        </p:nvPicPr>
        <p:blipFill>
          <a:blip r:embed="rId10"/>
          <a:stretch/>
        </p:blipFill>
        <p:spPr>
          <a:xfrm>
            <a:off x="5500800" y="1643040"/>
            <a:ext cx="321624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Object 29"/>
          <p:cNvGraphicFramePr/>
          <p:nvPr/>
        </p:nvGraphicFramePr>
        <p:xfrm>
          <a:off x="1143000" y="5541840"/>
          <a:ext cx="7089840" cy="13161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541840"/>
                    <a:ext cx="70898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1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2"/>
          <p:cNvGraphicFramePr/>
          <p:nvPr/>
        </p:nvGraphicFramePr>
        <p:xfrm>
          <a:off x="714240" y="714240"/>
          <a:ext cx="7459920" cy="226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40" y="714240"/>
                    <a:ext cx="74599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26"/>
          <p:cNvGraphicFramePr/>
          <p:nvPr/>
        </p:nvGraphicFramePr>
        <p:xfrm>
          <a:off x="577800" y="2790720"/>
          <a:ext cx="6624720" cy="2309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31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7800" y="2790720"/>
                    <a:ext cx="66247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571680" y="4357800"/>
          <a:ext cx="6929280" cy="2278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680" y="4357800"/>
                    <a:ext cx="69292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4"/>
          <p:cNvGraphicFramePr/>
          <p:nvPr/>
        </p:nvGraphicFramePr>
        <p:xfrm>
          <a:off x="4643280" y="4500720"/>
          <a:ext cx="986040" cy="37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4500720"/>
                    <a:ext cx="98604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5"/>
          <p:cNvGraphicFramePr/>
          <p:nvPr/>
        </p:nvGraphicFramePr>
        <p:xfrm>
          <a:off x="4714920" y="5857920"/>
          <a:ext cx="985680" cy="374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14920" y="5857920"/>
                    <a:ext cx="9856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4286160" y="4143240"/>
          <a:ext cx="1285920" cy="311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86160" y="4143240"/>
                    <a:ext cx="128592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0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2" name="Object 27"/>
          <p:cNvGraphicFramePr/>
          <p:nvPr/>
        </p:nvGraphicFramePr>
        <p:xfrm>
          <a:off x="857160" y="928800"/>
          <a:ext cx="7286760" cy="1928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3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928800"/>
                    <a:ext cx="72867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28"/>
          <p:cNvGraphicFramePr/>
          <p:nvPr/>
        </p:nvGraphicFramePr>
        <p:xfrm>
          <a:off x="857160" y="1643040"/>
          <a:ext cx="7545600" cy="1857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6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7160" y="1643040"/>
                    <a:ext cx="75456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2"/>
          <p:cNvGraphicFramePr/>
          <p:nvPr/>
        </p:nvGraphicFramePr>
        <p:xfrm>
          <a:off x="642960" y="2286000"/>
          <a:ext cx="7858080" cy="1357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60" y="2286000"/>
                    <a:ext cx="78580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0"/>
          <p:cNvGraphicFramePr/>
          <p:nvPr/>
        </p:nvGraphicFramePr>
        <p:xfrm>
          <a:off x="785880" y="3143160"/>
          <a:ext cx="7643880" cy="14288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69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5880" y="3143160"/>
                    <a:ext cx="764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31"/>
          <p:cNvGraphicFramePr/>
          <p:nvPr/>
        </p:nvGraphicFramePr>
        <p:xfrm>
          <a:off x="1143000" y="4572000"/>
          <a:ext cx="7358040" cy="14288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71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43000" y="4572000"/>
                    <a:ext cx="73580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56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Object 27"/>
          <p:cNvGraphicFramePr/>
          <p:nvPr/>
        </p:nvGraphicFramePr>
        <p:xfrm>
          <a:off x="428760" y="571680"/>
          <a:ext cx="8215200" cy="1643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571680"/>
                    <a:ext cx="82152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28"/>
          <p:cNvGraphicFramePr/>
          <p:nvPr/>
        </p:nvGraphicFramePr>
        <p:xfrm>
          <a:off x="785880" y="4714920"/>
          <a:ext cx="7412040" cy="15080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7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4714920"/>
                    <a:ext cx="74120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29"/>
          <p:cNvGraphicFramePr/>
          <p:nvPr/>
        </p:nvGraphicFramePr>
        <p:xfrm>
          <a:off x="785880" y="1785960"/>
          <a:ext cx="7715160" cy="22114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9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85880" y="1785960"/>
                    <a:ext cx="77151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30"/>
          <p:cNvGraphicFramePr/>
          <p:nvPr/>
        </p:nvGraphicFramePr>
        <p:xfrm>
          <a:off x="785880" y="3429000"/>
          <a:ext cx="7358040" cy="16668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01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5880" y="3429000"/>
                    <a:ext cx="735804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0:54Z</dcterms:modified>
  <cp:revision>89</cp:revision>
  <dc:subject/>
  <dc:title>幻灯片 1</dc:title>
</cp:coreProperties>
</file>